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09A6-BC7E-445B-91D3-DDA6E8D7D7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5E6B-D059-48CC-BAAD-A2C3494C5A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7720" y="388260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37400" y="12949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7720" y="38826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37400" y="38826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43120" y="12949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48520" y="12949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7720" y="38826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43120" y="38826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48520" y="38826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837-086C-4D89-9331-C55BC0E6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39E7-2220-4C7F-AB46-AF2B796C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09A-C1C4-4B0F-82BE-9956DA1A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7400" y="12949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36D-9858-4AA5-B8A1-80AEEB5D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72A0-601F-4730-BB42-785BD38A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9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B9DA-A1F6-4ECD-8FEE-0A9D9970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37400" y="12949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38826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141D-EFE0-4790-9E75-AA41C248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77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7400" y="12949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37400" y="38826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8C16-774B-4AAF-BFA0-B9FB829E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7400" y="12949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388260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DA68-FCC6-4063-9814-F15D607D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388260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D348-5102-424B-B614-CA26C9F6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7400" y="12949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38826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37400" y="38826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8DEF-6625-4EE6-901E-58086772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3120" y="12949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48520" y="12949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38826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3120" y="38826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48520" y="38826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709-5129-4352-B95B-ACB587BB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7400" y="12949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9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7400" y="12949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8826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7400" y="12949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37400" y="38826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7400" y="12949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388260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228600" y="304920"/>
            <a:ext cx="8353080" cy="1336680"/>
            <a:chOff x="228600" y="304920"/>
            <a:chExt cx="8353080" cy="1336680"/>
          </a:xfrm>
        </p:grpSpPr>
        <p:sp>
          <p:nvSpPr>
            <p:cNvPr id="1" name="Rectangle 6"/>
            <p:cNvSpPr/>
            <p:nvPr/>
          </p:nvSpPr>
          <p:spPr>
            <a:xfrm>
              <a:off x="228600" y="121932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4"/>
            <p:cNvGrpSpPr/>
            <p:nvPr/>
          </p:nvGrpSpPr>
          <p:grpSpPr>
            <a:xfrm>
              <a:off x="330120" y="304920"/>
              <a:ext cx="8251560" cy="1052280"/>
              <a:chOff x="330120" y="304920"/>
              <a:chExt cx="8251560" cy="1052280"/>
            </a:xfrm>
          </p:grpSpPr>
          <p:sp>
            <p:nvSpPr>
              <p:cNvPr id="3" name="Rectangle 2"/>
              <p:cNvSpPr/>
              <p:nvPr/>
            </p:nvSpPr>
            <p:spPr>
              <a:xfrm>
                <a:off x="330120" y="412920"/>
                <a:ext cx="43812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Rectangle 3"/>
              <p:cNvSpPr/>
              <p:nvPr/>
            </p:nvSpPr>
            <p:spPr>
              <a:xfrm>
                <a:off x="712800" y="4129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Rectangle 4"/>
              <p:cNvSpPr/>
              <p:nvPr/>
            </p:nvSpPr>
            <p:spPr>
              <a:xfrm>
                <a:off x="453960" y="835200"/>
                <a:ext cx="4222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Rectangle 5"/>
              <p:cNvSpPr/>
              <p:nvPr/>
            </p:nvSpPr>
            <p:spPr>
              <a:xfrm>
                <a:off x="826920" y="838080"/>
                <a:ext cx="3682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Rectangle 7"/>
              <p:cNvSpPr/>
              <p:nvPr/>
            </p:nvSpPr>
            <p:spPr>
              <a:xfrm>
                <a:off x="674640" y="304920"/>
                <a:ext cx="31680" cy="105228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Rectangle 8"/>
              <p:cNvSpPr/>
              <p:nvPr/>
            </p:nvSpPr>
            <p:spPr>
              <a:xfrm>
                <a:off x="355320" y="1095480"/>
                <a:ext cx="8226360" cy="3168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8377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4288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4788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6692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68596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68596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68596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Text Box 16"/>
          <p:cNvSpPr/>
          <p:nvPr/>
        </p:nvSpPr>
        <p:spPr>
          <a:xfrm>
            <a:off x="762120" y="6324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Text Box 17"/>
          <p:cNvSpPr/>
          <p:nvPr/>
        </p:nvSpPr>
        <p:spPr>
          <a:xfrm>
            <a:off x="329040" y="6248520"/>
            <a:ext cx="5667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ahoma"/>
              </a:rPr>
              <a:t>Tony Clark </a:t>
            </a:r>
            <a:r>
              <a:rPr b="0" i="1" lang="en-GB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AB3E2A9-3F6B-45B6-96AB-945DEBA2A419}" type="slidenum">
              <a:rPr b="0" i="1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0" i="1" lang="en-GB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8377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4288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4788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6692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68596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68596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68596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9B91-20AA-42AC-8444-A865B7F7D52F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Object Oriented Modell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ny Cla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rrespondence to Jav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77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hote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abstract class Uniqu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int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id =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getId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Inherit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hote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abstract class Located extends Uniqu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nam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ring addre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Located(String name, String addres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.name = nam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.address = addre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... accessors and updater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1-1 Associ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77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hote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Booking extends Uniqu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...simple attributes omitte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Customer custom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Room roo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...rest of clas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1-* Associ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2949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java.util.Vector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BookingSyste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Vector&lt;Customer&gt; customers = new Vector&lt;Custom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Vector&lt;Hotel&gt; hotels = new Vector&lt;Hotel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Vector&lt;Booking&gt; current = new Vector&lt;Booking&gt;(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Vector&lt;Booking&gt; history = new Vector&lt;Booking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... more class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ethod Call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714680" y="1357200"/>
            <a:ext cx="5670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Java Implemen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77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addHotel(String name, String addres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tel hotel = new Hotel(name, addres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tels.addElement(hotel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hotel.getId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Using Associ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Java Implemen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200" indent="-3762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in BookingSystem</a:t>
            </a:r>
            <a:r>
              <a:rPr b="0" lang="en-GB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addRoom(int hotelId,Type type, int number, double price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getHotel(hotelId).addRoom(type, number, pric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in Hotel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addRoom(Type type, int number, double price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Room room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type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</a:t>
            </a:r>
            <a:r>
              <a:rPr b="0" i="1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ingle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room = new Room(new Single(price), number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/ ... more cases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rooms.addElement(room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oom.getId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Review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77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200" indent="-376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O Modelling: Class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4288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4288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4288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soci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4288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4288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4288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bstract Cla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lationship to Ja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4288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4288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4288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ll Sequ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Learning Outcom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7720" y="1928520"/>
            <a:ext cx="8001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200" indent="-376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view of OO Modelling techniques: Class Diagra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lationship between Class Diagrams and Java Program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4288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4288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tributes and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4288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tributes and Associ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4288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ethods and Op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4288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4288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bstract Cla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ll Sequences via Associ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lass Diagra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928800" y="1500120"/>
            <a:ext cx="407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lasses ha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soc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3429000" y="1785960"/>
            <a:ext cx="55180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Inherit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143080" y="1571760"/>
            <a:ext cx="51897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ethod Call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500440" cy="43243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1223280" y="142884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lculate the bill for a named custom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dd Oper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000080" y="1214280"/>
            <a:ext cx="6853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tel Case Stud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77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200" indent="-376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hotel booking system is required. Hotels register with the booking system to make their rooms availab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ach room has a type: single; double; family; suite. The type determines the price of the roo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ustomers must register with the booking system before booking a roo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customer books a room. Subsequently they arrive at the hotel and are issued with a key card. They can charge food and hotel facilities to the car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ustomers pay when they check-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Outline Class Diagram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928800" y="1000080"/>
            <a:ext cx="621504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ttribut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316160" y="1000080"/>
            <a:ext cx="532764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1:37:44Z</dcterms:created>
  <dc:creator>Andrew Barnes</dc:creator>
  <dc:description/>
  <dc:language>en-US</dc:language>
  <cp:lastModifiedBy>Tony</cp:lastModifiedBy>
  <dcterms:modified xsi:type="dcterms:W3CDTF">2011-03-17T14:02:18Z</dcterms:modified>
  <cp:revision>363</cp:revision>
  <dc:subject/>
  <dc:title>Software Engineering</dc:title>
</cp:coreProperties>
</file>